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F9F-F673-4A2E-9315-D11FEC0DCD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6756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ole of financing strategies in national level water sector planning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nya and Mozambique</a:t>
            </a:r>
            <a:endParaRPr b="1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5409720"/>
            <a:ext cx="7391520" cy="9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meel Virje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UWI – FWG Meet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ckholm, Sweden, August 2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5040" y="-360"/>
            <a:ext cx="55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Key Emerging Points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nds to be sparse and of poor qualit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llection for the ‘model’ should be in the context of informing a national monitoring system and its developmen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 should be within existing government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widely consultative to ensure that model assumptions are understood and accept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to follow must be iterative to demonstrate the impact of bad data on decision making outcom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should examine different options available to finance sector targe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nor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positive impact of finances contributed in a SWAp arrangement and underpin a consolidated sector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ancial pl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plans to Minister of Water, Ministry of Finance, Joint Sector Review and as part of PRSP monitoring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guidance to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sector acto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of running the sector appropriately to achieve impac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financing to different levels of government or sector institut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87a"/>
                </a:solidFill>
                <a:latin typeface="Arial"/>
              </a:rPr>
              <a:t>Practical benefits of sector financial analysis and financing strategies</a:t>
            </a:r>
            <a:endParaRPr b="1" lang="en-US" sz="30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financ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ccountability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llowing the measurement of achievements against financial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utput monito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secto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impact of sector finance and help to leverage mor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533760" y="-360"/>
            <a:ext cx="561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Key Features of Financing Strateg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osts of meeting sector targe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investment costs for new and replacement infrastructur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and maintenance cos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linked to management/ development of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level of available resourc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iff revenu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or fund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’s own resource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financing balances in the secto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sufficient at a national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funds available equitably across different region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ew infrastructure development sustainable?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 moving towards a SWAP and financing strategy is needed for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pinning the sector investment pl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channels of finance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ng financial management issues in the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separation of roles in sector reform enhances need for coherent national strategy for financing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for such a strategy also driven by the need for the sector to better represent its budget plans to the MoF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"/>
          <p:cNvSpPr/>
          <p:nvPr/>
        </p:nvSpPr>
        <p:spPr>
          <a:xfrm>
            <a:off x="661500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963800"/>
            <a:ext cx="6053040" cy="4413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NANCING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701800"/>
            <a:ext cx="1919160" cy="4431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76680" y="31449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05440" y="3587760"/>
            <a:ext cx="191916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3840" y="4030560"/>
            <a:ext cx="1919520" cy="4413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lling Investment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8592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2428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6228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0064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38640" y="4768920"/>
            <a:ext cx="73836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77000" y="4768920"/>
            <a:ext cx="738000" cy="442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15000" y="4768920"/>
            <a:ext cx="738360" cy="441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nual Bu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3040" y="2405160"/>
            <a:ext cx="738000" cy="592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8592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2428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6228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0064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38640" y="5506920"/>
            <a:ext cx="73836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7700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506920"/>
            <a:ext cx="738000" cy="44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tor Reven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3040" y="4325760"/>
            <a:ext cx="73800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53040" y="1668600"/>
            <a:ext cx="738000" cy="295200"/>
          </a:xfrm>
          <a:prstGeom prst="downArrow">
            <a:avLst>
              <a:gd name="adj1" fmla="val 36222"/>
              <a:gd name="adj2" fmla="val 3055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1373040"/>
            <a:ext cx="6053040" cy="29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ctor Poli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5235480"/>
            <a:ext cx="4281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vailable Sector Fin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3800" y="1349280"/>
            <a:ext cx="76320" cy="106704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882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1882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467480" y="56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568600"/>
            <a:ext cx="1600200" cy="1159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nels of finance and their leveraging of user/community/market fi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9760" y="-360"/>
            <a:ext cx="683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Arial"/>
              </a:rPr>
              <a:t>Financing Strategies: Kenya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adopt sector movement to a SWAp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 analysis of sector finances by a multi-stakeholder group in the Ministry of Water and Irrigation (SIP working group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workshop to review assumptions in the analysis includ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Water and Irrigation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Board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Trust Fun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Services Regulatory Board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Partner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 forward adopted and further data collection exercises began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olicy options report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ng strategy – October 2006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25760" y="-360"/>
            <a:ext cx="661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196640"/>
            <a:ext cx="77724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rural water financing strategy identified by governmen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on institutional work done as part of the country MDG roadmap and other sector document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ector reform issues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decentralization to the district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the National Directorate for Water to increase its policy formulation and monitoring rol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to better coordinate fragmented donor project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57040" y="-36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Arial"/>
              </a:rPr>
              <a:t>Financing Strategies: Mozambique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ing followed: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identification mission and development of process TORs with Government of Mozambique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line financial assessment for the rural water sector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op on sector finance to: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 baseline financial analysi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verall budget process and financial bottlenecks in the secto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options analyzed by DNA-GPC (with consultant support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trategy proposed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6:28:32Z</dcterms:modified>
  <cp:revision>295</cp:revision>
  <dc:subject/>
  <dc:title>PowerPoint Presentation</dc:title>
</cp:coreProperties>
</file>